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A67-2B0A-4102-A393-D6AE444D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D08-3E33-4B43-8AE6-E102F2EE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6A1-EC3B-4855-9F8F-42564DA0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2FE-AC97-4A3D-9D34-CFBFBB13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08B-C9D7-4386-8438-FE62240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263-1571-42B9-9702-B932D1F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68DC-3A03-406A-91B8-5C6368B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09B3-253D-4219-905D-BA65BFC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0A0C-47AB-4968-BD06-8F93FCD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557-ED0B-449C-9A78-16C7F353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729D-AF4F-4317-A585-9C5D9F8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A72-0B59-431B-8349-0028FB3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255F-210A-40F7-AFB4-CB85A1D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A0C2-384E-4B99-975C-7DCB474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16B-3C76-489D-9EEF-1728B49C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615-A7DC-491D-974E-60FDD11A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83CD-00A8-45E7-834E-6D81532D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AF6-9689-4C73-AB70-A4C9B99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BED-812E-47E5-9BB3-07FB805E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365-47E4-412C-A9AD-977BC8AC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F4E-5DA2-4DB5-9C13-A25B06E0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9EB-9DC8-42CC-BD55-A9A181A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063-CE17-469B-B013-3A46EEF9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7F2-79BA-4776-A83F-89597F5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CDD-C937-4696-B2A2-84E863004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1A4C-BA47-44E8-9211-627F01F32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2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ike your test grade? Well, you have up to 3 retakes to improve your sc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2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8-13T16:14:12Z</dcterms:modified>
  <cp:revision>11</cp:revision>
  <dc:subject/>
  <dc:title>Slide 1</dc:title>
</cp:coreProperties>
</file>